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A44-81A4-4790-BEB4-D0587C9B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7A2-6147-41A0-BFC7-D83E1C4D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F2F9C-3878-462F-9961-7E1D23E5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CEDFA-54E9-43D1-B56C-81C129A6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DF2A1-45BF-4771-AB57-7EA91305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63E06-28EA-4DF9-A60D-A426A7EF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B5535-073E-4D60-9DF3-37470810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FB36E-C4D0-4982-BEF3-4B7C62DD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80CC3-CA58-488C-BED9-288ACAD1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A2670-F75E-4DF9-9B6C-7B5B64A3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6B1A3-F35B-4EAE-B35C-136D8797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350A5-7658-45DF-90CB-56E6B0EC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B94-8309-4A5F-9D99-97476300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5ABC9-81D0-4FA5-96EC-31B18F4D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B9B9D-96FF-4D34-8F87-1269681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AB1EA-314E-4C5D-8F63-E2151CF0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889DD-1072-46D6-A183-BE873DB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22CC2-2FC7-4F24-84EB-B7423D33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44F49-C0EF-4D0E-89EF-ED970926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DE7B1-93C4-4F3C-8CD7-9D46C55D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1A839-B91A-4E7E-95E8-D7275A07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2E605-4754-4AEC-AD71-05E02EEC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DC625-2A39-497E-BA39-364C4370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F10B-9A21-403C-830E-AE60D4C3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BB861-FEBF-4222-89C6-05D2C1AB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88A3A-309C-43AE-94F9-4D969CBF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475C3-3645-4D1A-93D9-F5ED4B79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11BED-37AF-419D-855A-54C0CFB8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AD245-BE8B-4104-BACB-8B9BDC28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6C199-25E4-4141-B798-E65EB1A7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8BC12-067D-41F4-B924-B7127D1C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239E6-6040-4DC0-B19B-B0F511FC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FA128-57C6-4CE8-8C31-C166685C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871C7-E2C2-4CC0-8F66-80A455E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FB41-89FA-4406-B894-B9F5FFAA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88105-8F02-4296-99CD-BC4DB981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1188E-B4CB-431C-B15D-8A9AC0DD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BD879-D3F4-488C-AA5F-BD50CAA4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39AC8-2A97-469B-B999-723EE37B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74C0C-83C0-48C0-9EBE-FBDE84BB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68533-3F5E-4EDD-95FA-EE54D6C9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D36F2-53CD-4ECF-A778-6C131DBF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E2307-9E89-48B3-8533-C76A121D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DEA32-8724-45EB-A23C-50E29223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2E9BC-7153-4448-9A87-930642C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47BC-0527-4825-930B-AC8C9233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5B0D0-05BF-4801-B53D-6F0B67F1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B756D-A636-40BB-91DD-ECACE6CE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37744-2AA4-45C4-AFF1-432143E7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1D7B1-DB36-4515-92C4-C262DEAE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42968-79FE-4B16-8CEB-5B509530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557A8-8750-4BC2-8380-1A56658F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3C234-7282-4146-A094-A91ED25C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5830C-5289-45B4-AB9C-AB0D7760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4A3A6-3782-4651-A768-9F659249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E7279-FD61-4DB7-96A6-983D052F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71CA-046C-4BC4-9D01-89479737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4E683-2A76-407B-A9CC-EBE74807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78F7C-AAAD-4ECA-8FBF-8A900992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40616-100F-4468-8F81-27DC27F0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E5D36-B27A-448A-AAF1-5B4C0840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2BD08-3242-459E-9EEE-E78029B9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783FD-AB78-4092-82B6-AD897E70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7BFCC-A51B-41A9-BF47-89C9AA9E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F5AFE-8B85-47B6-8B47-51FDB7B8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B3618-ABE5-4F9E-927C-6D01C33E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49656-331A-4369-A37D-3E7D65F7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CD76-AFC8-47F1-9010-AFC31BBC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67AB7-DF15-493F-9CE0-A884B857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9F21F-5EDA-49A2-AF0F-ED79F88B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E4E57-DE20-4D5E-9B69-AC029C79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4CED6-27CC-486C-ABE1-6675D3C8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FFAA2-6873-4B1B-97F3-774FB0F8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2671D-AD2B-4809-ACF2-99B1677E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1002B-A412-442C-872F-CB614204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311E6B-5C64-4032-A8EC-C150D8F1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13EA6-CCAD-4D24-972B-2C422681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FF818-070B-4CD8-B7F9-FDDB7BDC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8C14-E5CF-4AAB-87EC-144CFFFF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05327-7BDC-4D28-A3F3-9249CDF9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3B981-D283-4DA2-8762-DEDA1D86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C3C343-F8B3-4E83-8222-EE17E923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94AD49-CE56-4EAB-B96D-B7A138EC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3516D-BFC4-4C89-8967-0C0FDC44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CD9E7-6568-4A7D-BD2E-7F8F50A9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B6167-C408-48F5-A07A-E04B1F01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12905A-8F4A-4D95-9CBE-6A598E5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6B8CB-F59A-4788-B636-52BD937F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0166C6-3E4A-4BBC-B448-061F679D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7A45-F834-48F1-AF39-DFBDD06A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59C33-71E3-464E-A62F-12A7E8B9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CBCE8-4895-4F27-98EA-DE9E7606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1C15A-1431-4672-A6C7-3E459BEB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9EEA7B-28B9-4432-9192-4CFBDCA2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E7DED-A60C-458B-9FD5-913F5CDC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1527D-CF52-44DE-BF87-F4C1E3C2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F3FEAC-0D02-4BA6-BAC7-88CF7A13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1164F-E8B7-454C-9AD8-1D9800DA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ABB07-BFD2-49F1-9668-96EED317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79E11-EDA9-4734-868E-50209D96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CB4F-24AC-410E-B2A3-D14F46E3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8346A-3D15-48EB-9556-FADACDCA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D9BD9-1381-4BBE-A1C0-AD0E180A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55DB6B-DBF7-4664-904F-24A1D7F0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F1AE6E-9A16-47C1-B5C8-093611A3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DD2EF6-A13D-4BC9-A6B2-710C5CD1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10A843-911D-4B62-A568-8B970E50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F4A14-BF67-4642-BFB4-2208C3BD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2C8B0-356D-41C7-B4A2-04282B11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457B7-C6BE-43DF-B978-868F5FD1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250FF2-47F9-467F-BD8A-0E7E3130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9CB-ABFA-48D7-8B2A-D82AEC3B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2A77-7B86-4B3E-AE5A-2E34D54F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32D29-FD3F-4A17-BD93-AC7CA695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1EA42-3820-4455-8FAA-D2360C75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7CFDF-F812-4F1C-A5FF-590E7D37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C970A5-0C0D-489B-AEE4-2A07A085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47220-4F24-417D-8A02-C6A78D75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3AAF5-2154-4420-94B6-0598D6BC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480FF5-9178-4386-B48D-34DB3865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B1BAA-692C-4670-964A-F825EA39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6384D8-A98B-4F74-82F9-E628E20C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246A12-E534-44C8-A195-9CCB983B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E263-F797-41AD-9C53-E7045E4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C1D80-22CF-400B-9367-61D10B57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C61A5-CBEA-4471-A23C-166E2CCF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D95A5-F7F1-46BB-951D-1743EA79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F0C147-1296-4FF3-9F38-F6557935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B25CC6-9408-49DE-BF82-2FB4F4D7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8AFEA-FFC0-4109-A991-91F7E1B7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FDED8-C1ED-428B-8CC2-D0465565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BF9B1-6828-4A53-8968-D5C965BD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68A5C-67EE-4CDF-B392-40484FDE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ABB516-21F0-4817-BE28-703549E7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101C-11CA-443D-A8DC-262B6FF6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190CC-C17D-4922-84FF-02957C88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BBAC4-4647-4E52-A979-3D4CFC72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893E0A-C9CB-4A95-8172-609275D0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B6FA86-F316-45EA-8A36-25927FD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67496-7554-4765-B8A3-675D913A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03EE80-E56E-4625-BEC1-6AFA906B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40198-BC05-4E4B-BBCE-8836C752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E6D8A2-883D-43A6-99C4-CE29F127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09633-499D-4DE8-BBCC-2B2D58D0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68F352-198B-44AF-877F-D39F6F1A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8948-91B1-41DF-94CB-C90C4F6F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4AD082-488B-492F-AA2F-5255E931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978C6-4D7A-4BDD-AE63-203AEE68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109AB8-5EF6-4CC3-AC2B-C45824A7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3637F2-E1F4-4FB4-9163-2AD483C6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9E63A2-0FDA-4615-99F8-75FCCB8D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8FB8C3-CDAC-40A0-B372-F1036C3D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283912-4D0A-4725-B598-AE395698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08DA55-D73E-4992-9044-4769B9B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BDFBBD-62D4-4CBC-94C6-2720C4A0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5E49AF-67C3-4072-A768-EFF778EC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18AA-18C5-4545-B7CE-3EA7B816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C6C76E-4A25-4564-84E8-8046DB34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F21BA-17BA-4C91-B861-5EC0B573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B9BF5E-0C25-4AB0-AF2C-61DA6014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DB930F-32B1-4A71-BD55-226F6C62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E32842-555D-4E9B-B147-97B7AC7D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9E6C00-E271-4CE4-AA48-7503CD59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292899-040B-4C92-B1A3-8EA52C61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A3C2A-854E-453C-9186-4C1F411B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CF9D48-CA85-47CF-BD62-D657BA62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073ADD-90A8-42E7-92D4-0FD21C3C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42B40-2D9F-4240-8097-7C542A28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13E392-2834-48C0-8A51-99AC3365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2445DE-D953-4461-B960-00F654BA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57D1A2-C6BD-4301-BC33-132710B5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912A-2DB0-4071-B522-2B980AA4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B8E6-E013-4A20-A6E1-93DB69F4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58C0-04F3-47E4-BFC5-B1972945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57C67-B822-468A-B0DE-A7B1D5B1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1C8-555E-48CA-81BD-05DB33C6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5160-9A31-427B-A95B-F5A294F6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AD236-0775-4F19-9C68-3C2D8434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944FE-D76B-4F8E-A333-50214FA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1391-31BD-4A9F-864E-FFF07673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05B6-A51B-4152-931C-3F26C58D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8DEF-601E-4B60-B3E2-BE2CDC94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4832-4DC3-4F61-8ECC-A9CB81E1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8A3C-460B-4D36-9B12-A589079F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B3BD4-6D73-4BD8-8608-EE9A872E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11613-A5F3-4D61-85B4-491FFFF2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EFB-E7CF-4096-A986-C9959746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FC4F9-2125-4CC4-8CD7-B3FA32C7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A7F1-3238-42BF-9B42-03F65BFF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18EE-93CA-4E4A-8905-390A488C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FB0B-6935-466F-9D5B-CEC80348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07D53-B53E-495A-938F-EE2ADF2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BCF8-A9C3-4CCE-B43A-1BEC421A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66D3-69A1-4502-B00D-81DC2E4D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AB689-C268-4523-B93D-970C3BD1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7E54D-6FA5-4D61-AA98-3609AB4A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D6B50-A3D2-4C5B-9D92-DD1F29E0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A8D-C824-4089-BA02-21F7A64B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797DA-A635-4D2B-99F7-3C7D118C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EC6B-7682-4819-8E03-E14E7F26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FD6B2-3FAE-4879-BC7E-41235A77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77154-B4C4-4086-B628-10FEEC82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E0B17-DFAE-4776-A4E7-25D98EC3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334A8-9EB9-4226-9F67-05773695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4A1D3-3F3C-4EC4-B743-6A0026CC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BE55C-3FAF-4697-A353-5E40793A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78A6F-3FE9-49B8-B4A3-C5A0CFA6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7CE8-8C34-44B6-821E-B4F11B7C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C44-30EF-402B-89F6-8830EF4B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DD2EC-BD76-436F-9765-8AED1239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24089-4F0A-4A84-9684-9465FDE7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DBAE5-4957-4760-9C58-679EFB3A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FB022-BB0E-4D63-AAA3-A7BBEB23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BBEE-7784-4ED7-99FA-5E3E55F2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CD58A-7530-4B09-92E3-41C9A5C5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0E3C7-7D62-4FF3-83A0-A3FF5F5B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FC609-7D09-4BD2-93BB-5C82F9B1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C0F3D-EE16-40BA-A15E-B4FD8385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5D16D-53E3-4D11-B7C9-B9577888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E2BA-4DF3-4FAE-9DFF-255531DE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97FFC-B69C-4423-8155-0AF7D7AF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4E792-E0A3-480C-8152-87CDDB51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03B08-F985-4AA1-A17D-0C624835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E1128-B6DD-41B7-9F83-8556C0CC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4B74F-9216-4906-A194-10700C79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4CC2C-6083-45C6-BC9A-00A9F45F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46C08-33FE-417A-92F1-733F8EC5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05B1C-7952-42C4-A826-7A265E0B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6A24A-39A8-4FD4-9671-637C4A9D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B6708-FDB6-4BC9-AA22-122AD9CA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E43-32EA-4BBB-A9B2-94DEB59A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3E6FE-D8FE-489F-92E7-2A18D33A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5DF87-CC56-4042-97D8-F2D5777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75C7C-A5F7-4029-8C8B-B7C8A8C2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F49E1-6268-405F-BFE3-78A3C0C6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76D0C-785D-4D30-AC8C-CC867602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E9F58-2A14-44C3-8F4F-C20D319A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58393-8992-4DD0-93CA-B27418BC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C2004-60C1-4DDB-9744-297B8C68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8938F-9289-4BE7-A2CA-28867310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4CEBB-7AA8-4E3E-8519-97DBEA2C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2F7-9643-4A40-92C7-D3AE1F25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DA146-263E-4617-B99A-6FB3ED85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C1294-D648-48A5-B52E-03D07F5E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5C550-F4F5-469E-B121-036FF0ED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0D6BC-A1E2-4150-AF61-D413C578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D783D-5D78-4A71-8DB0-23CC6907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E69EA-6741-4976-ACA5-F14C6F15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881B9-CA3A-4364-9FAE-F4503831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54749-7876-42C9-8879-CB26AEB3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33EBF-30E1-403F-993C-4C0FAC23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A2A0E-7F01-4199-95E1-B02CADE5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6B12-B605-47D2-9984-B1C917C490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CC1C-DE70-45B1-B7EA-DD2871039D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E7B4-4A19-4C9A-BC02-77B5AA61E2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D400-6549-4FCA-84D4-A3ED28CB9D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0708-7FC1-4E85-BFBE-6B3667CA76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2707-3EA7-4925-9F63-91BB625D64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3F0D-F576-4D28-9D6E-34D4B78B6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5490-6D36-46A5-A094-4C10C4C2EC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B545-2588-4F70-9430-E56EB9C8E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2967-2701-4C72-8BBE-276C8E6890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4A4A-1372-44E2-B197-02A8CEA693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81B7-A54F-40E7-AB98-FF46191204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9BC0-E545-4769-8198-1E377BB96F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8BF0-8516-4E8D-BB5C-39C480431F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CA01-83C6-428D-B635-04DE577386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13D0-833A-4DF7-BEEB-D45E9059CC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15A6-0737-4B1B-BB6D-A51115FF05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7078-E7BD-44E3-833A-321BEC1E3A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FFF8-B56A-4A32-9F3C-21259CFCB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58A3-06EF-425D-948A-0EC314C5D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7FFB-E75E-4D4C-ACD2-665DC4D1C1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12B0-E8E9-4576-BBA3-BCFFB3B01D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5AFD-F45F-421A-B7B0-4654422555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9A8C-D8A4-4FBA-9401-4194430FD2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2EF9-9D54-47F3-A86E-DBA73BB704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355A-74E4-4B44-9FB3-06BBB74BA4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0835-9D20-48C6-A1A2-F92246A217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0388-ACBA-486A-8226-642B2FB506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E899-6BD4-4B2F-A3CB-50CFAA42B7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1F8D-DBFC-4FA1-AE4E-B3F76856AC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BC15-ACD1-4112-A288-51A3B5D92B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91FB-171E-464A-96BF-D61B565F5C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CD62-2804-4CC6-B12C-8FE39DB25B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0921-0D6F-440D-B0CD-DBF9949339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43B4-CDEB-43C5-ABBF-EEC27B5218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A0B4-B57F-410A-AFA5-9831BC5159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13CD-B3D0-47FC-825F-7BEB21F968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CC87-819C-4DDF-A3A6-0163DAFD7E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F0C5-AED6-4654-9897-5829241BEB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6585-91FF-45C2-9EB6-5842EC94C0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19480" y="2976480"/>
            <a:ext cx="45050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9633" descr=""/>
          <p:cNvPicPr/>
          <p:nvPr/>
        </p:nvPicPr>
        <p:blipFill>
          <a:blip r:embed="rId1"/>
          <a:stretch/>
        </p:blipFill>
        <p:spPr>
          <a:xfrm>
            <a:off x="271440" y="900000"/>
            <a:ext cx="8601120" cy="55533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5400720" cy="934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900000" y="5516640"/>
            <a:ext cx="54007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8609" descr=""/>
          <p:cNvPicPr/>
          <p:nvPr/>
        </p:nvPicPr>
        <p:blipFill>
          <a:blip r:embed="rId1"/>
          <a:stretch/>
        </p:blipFill>
        <p:spPr>
          <a:xfrm>
            <a:off x="1052640" y="1197000"/>
            <a:ext cx="7038720" cy="213372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68610" descr=""/>
          <p:cNvPicPr/>
          <p:nvPr/>
        </p:nvPicPr>
        <p:blipFill>
          <a:blip r:embed="rId2"/>
          <a:stretch/>
        </p:blipFill>
        <p:spPr>
          <a:xfrm>
            <a:off x="461880" y="3448080"/>
            <a:ext cx="8220240" cy="2286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4356000" y="1455840"/>
            <a:ext cx="649440" cy="749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7480440" y="1441440"/>
            <a:ext cx="649080" cy="7491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4370400" y="2333520"/>
            <a:ext cx="649440" cy="749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7524720" y="2319480"/>
            <a:ext cx="649440" cy="749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1965240" y="3774960"/>
            <a:ext cx="649440" cy="749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8"/>
          <a:stretch/>
        </p:blipFill>
        <p:spPr>
          <a:xfrm>
            <a:off x="5076720" y="3774960"/>
            <a:ext cx="649440" cy="74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9"/>
          <a:stretch/>
        </p:blipFill>
        <p:spPr>
          <a:xfrm>
            <a:off x="8244000" y="3774960"/>
            <a:ext cx="649080" cy="749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0"/>
          <a:stretch/>
        </p:blipFill>
        <p:spPr>
          <a:xfrm>
            <a:off x="1979640" y="4624560"/>
            <a:ext cx="649440" cy="7491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1"/>
          <a:stretch/>
        </p:blipFill>
        <p:spPr>
          <a:xfrm>
            <a:off x="5062680" y="4653000"/>
            <a:ext cx="649080" cy="7491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2"/>
          <a:stretch/>
        </p:blipFill>
        <p:spPr>
          <a:xfrm>
            <a:off x="8288280" y="4638600"/>
            <a:ext cx="64944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771480" y="870120"/>
            <a:ext cx="7601040" cy="5438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332000" y="4178160"/>
            <a:ext cx="2879640" cy="979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258920" y="5315040"/>
            <a:ext cx="2879640" cy="979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2879640" cy="979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292720" y="5373720"/>
            <a:ext cx="287964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1000080" y="1771560"/>
            <a:ext cx="7143840" cy="33148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3097440" cy="936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5003640" y="2924280"/>
            <a:ext cx="3097440" cy="936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900000" y="4076640"/>
            <a:ext cx="3097440" cy="9367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5003640" y="4091040"/>
            <a:ext cx="3097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552600" y="1343160"/>
            <a:ext cx="8038800" cy="41716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2786040" y="2521080"/>
            <a:ext cx="433440" cy="336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761160" y="2521080"/>
            <a:ext cx="433440" cy="3366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3678120" y="3659040"/>
            <a:ext cx="433440" cy="3366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3665520" y="4795920"/>
            <a:ext cx="43344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314280" y="1409760"/>
            <a:ext cx="8515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757080" y="1366920"/>
            <a:ext cx="7629840" cy="41241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84360" y="1441440"/>
            <a:ext cx="2663640" cy="979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4427640" y="1355760"/>
            <a:ext cx="3457440" cy="979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684360" y="2622600"/>
            <a:ext cx="2663640" cy="979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4284720" y="2492280"/>
            <a:ext cx="2663640" cy="979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539640" y="3716280"/>
            <a:ext cx="2664000" cy="979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4427640" y="3716280"/>
            <a:ext cx="2663640" cy="979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8"/>
          <a:stretch/>
        </p:blipFill>
        <p:spPr>
          <a:xfrm>
            <a:off x="826920" y="4811760"/>
            <a:ext cx="26640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257040" y="1362240"/>
            <a:ext cx="8629920" cy="4133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4110120" y="2722680"/>
            <a:ext cx="433440" cy="720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5464080" y="2722680"/>
            <a:ext cx="433440" cy="720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775560" y="2722680"/>
            <a:ext cx="433440" cy="7207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4083120" y="4551480"/>
            <a:ext cx="433440" cy="7207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5451480" y="4551480"/>
            <a:ext cx="433440" cy="7207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6789600" y="4552920"/>
            <a:ext cx="433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152280" y="787320"/>
            <a:ext cx="8839440" cy="58104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187280" y="4581360"/>
            <a:ext cx="4321440" cy="10083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1116000" y="5632560"/>
            <a:ext cx="7632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1652760" y="1971720"/>
            <a:ext cx="5838480" cy="2914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979640" y="2708280"/>
            <a:ext cx="3529080" cy="9367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2050920" y="3773520"/>
            <a:ext cx="5185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29:2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